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D97-929C-486B-80EA-FDAA6B3F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32D-8BDC-4C6A-9E1C-8E8EE667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F3B-6963-4D94-9B09-69C36C94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A2A-CD2B-4D7A-ABE4-CB05E4E3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36B-52D0-49D8-9592-CB6D183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E14-9E60-433D-AACF-9454AE5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325-27FF-4176-80A2-E88AB21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6B0-27AE-4127-9FA9-DF4431B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B6A-D4D1-45D8-A138-D61B828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C1E-D3CA-46FF-98BC-3306974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B77-8CF5-4354-9E99-1184D9D1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236-192E-4805-8977-A77170F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E2FD-3494-4B6B-803A-557741CB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38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Measures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CT Project No.2446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Quarter 2004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 Market Analysis Team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B2F-5FB6-4019-9449-DFFE291A67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3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In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ports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941-B375-459F-98EB-3ABEB7E5FC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28880" y="1668600"/>
          <a:ext cx="4398840" cy="37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1668600"/>
                    <a:ext cx="439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513-C78B-4742-B7D2-383767BE9A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756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55880" y="1832040"/>
          <a:ext cx="391320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5880" y="1832040"/>
                    <a:ext cx="39132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1920" y="6230880"/>
            <a:ext cx="71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should be noted that Move-In transactions have stricter protocol times than Switch transa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D5D-08CE-46EF-834C-9BA48F412F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18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 2004 Performance Measure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68480" y="1765440"/>
          <a:ext cx="6159600" cy="40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1765440"/>
                    <a:ext cx="615960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945-6189-4F05-8707-CB649D8B65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91800" y="304560"/>
            <a:ext cx="698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52480" y="1778040"/>
          <a:ext cx="566424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78040"/>
                    <a:ext cx="56642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CC5-3A3F-4EBF-BA90-1A4BC18627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3-02T17:07:43Z</dcterms:modified>
  <cp:revision>397</cp:revision>
  <dc:subject/>
  <dc:title>PowerPoint Presentation</dc:title>
</cp:coreProperties>
</file>